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B4A-7B56-4C10-83AB-3CE70FF1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3DC-A608-4BAE-8C24-84C7C805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5C8-88BE-481E-9CA4-204EFAF4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FB9-E0F8-43D5-AFC7-95C11A35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AD0D-02CF-4D95-8964-BEDE7798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07A5-098E-4884-AC3C-83CFB2DE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AD94-212E-4506-B745-C8088B61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9477-84FD-4B0D-B188-CCA92D41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FAC1-4A6D-4AB3-BF9D-73D3EFEF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4169-A956-4BC1-B90C-92198EEE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03B9-E163-4E82-BD0C-6BBD234E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4AF-8D6B-4D79-9247-7ECF50B9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D4FC-3472-4EDC-A88D-EC85075D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99E1-F8D3-4133-8D2B-DEB71F85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59FB-561B-49FB-9D9E-B0CBE5A9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EC99-081E-4704-A2C3-13F4AD8F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2A33-E5F3-4AD4-B4E8-888675F6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B280-D1EF-479F-832A-FAD92711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CF2-1DA2-49D3-8482-B4820EE9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2B0-6100-4BBF-8FF2-939C6143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337-7DA1-47C5-8F97-5AB76CFE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C60-ECBA-4591-9C4E-3BB3E8D3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5BC-B6CF-4A73-9AEB-B7108688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D2E-C511-489E-8DF7-B79231D6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BE6A-A06E-4DCF-AF96-A1DE99764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F874-8BAC-458C-86D9-48D56EE117EC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harcoal"/>
                <a:ea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xplicit Instruction: Effective and Efficient Teaching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art 2- Design of I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580-88A5-4A39-8F4F-97E00308AE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Charcoal"/>
                <a:ea typeface="Times New Roman"/>
              </a:rPr>
              <a:t>Design of Lesson - </a:t>
            </a:r>
            <a:r>
              <a:rPr b="1" i="1" lang="en-US" sz="3700" spc="-1" strike="noStrike">
                <a:solidFill>
                  <a:srgbClr val="333399"/>
                </a:solidFill>
                <a:latin typeface="Charcoal"/>
                <a:ea typeface="Times New Roman"/>
              </a:rPr>
              <a:t>Body</a:t>
            </a:r>
            <a:br>
              <a:rPr sz="3700"/>
            </a:br>
            <a:r>
              <a:rPr b="1" i="1" lang="en-US" sz="3700" spc="-1" strike="noStrike">
                <a:solidFill>
                  <a:srgbClr val="333399"/>
                </a:solidFill>
                <a:latin typeface="Charcoal"/>
                <a:ea typeface="Times New Roman"/>
              </a:rPr>
              <a:t>Skill or Strategy Instruction</a:t>
            </a:r>
            <a:r>
              <a:rPr b="1" lang="en-US" sz="3700" spc="-1" strike="noStrike">
                <a:solidFill>
                  <a:srgbClr val="333399"/>
                </a:solidFill>
                <a:latin typeface="Charcoal"/>
                <a:ea typeface="Times New Roman"/>
              </a:rPr>
              <a:t>  </a:t>
            </a:r>
            <a:endParaRPr b="0" lang="en-US" sz="3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I do i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Promp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We do i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Check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You do it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47A1-7C05-4E1E-BF04-6BE8485CF7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rategy/Skill Instruction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sign of Lesson 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e the strateg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students what is being taught, the goal of the strategy instructio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students the rationale for the strategy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steps in the strategy.  (This can also be done as the strategy is modeled.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BB5-F933-4960-8154-D873B49393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rategy/Skill Instruction   </a:t>
            </a:r>
            <a:br>
              <a:rPr sz="4400"/>
            </a:b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I do it.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(“My turn.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  (I do i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 step-by-st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ggerate the st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students what you are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students what you are thinking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n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for responses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664-1F35-4D4E-83F2-ADBDC201EA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rategy/Skill Instruction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  </a:t>
            </a:r>
            <a:br>
              <a:rPr sz="4400"/>
            </a:b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e do it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. (“Let’s do it together.”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  (We do it.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by doing behavior a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e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b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or lead students through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- do - Step - do - Step - do - Step -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fade your promp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6E1-0C71-40AB-A4AB-B852326B39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rategy/Skill Instruction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     </a:t>
            </a:r>
            <a:br>
              <a:rPr sz="4400"/>
            </a:b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You do it.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(“Your turn.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for understanding.  (You do it.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students’ understanding before independent work is give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fully monitor students’ respons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until students are consistently accu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5B3-9C03-4D71-B66E-3EBD59B69F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rategy/Skill Instruction - Modific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ications of “ I do it. We do it. You do i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cases, you can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I do 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do it”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cases, you can us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o 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do 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lesson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I do it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lesson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o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81C-9E80-4CBB-A760-7D5AB79D11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ategy/Skill Instruction 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5CA-791C-4732-8D1A-C6313CBC36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rategy/Skill Instruction </a:t>
            </a:r>
            <a:br>
              <a:rPr sz="44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Video Example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structional steps were demonstr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0A5-ADC1-41FF-AD10-1100801EB7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rategy/Skill Instruction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Video Exampl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good practices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6B0-10D1-48AD-826C-C477CB4A9E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Vocabulary (Concept)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789-F7C2-4919-9B95-DA9A187DB0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3399"/>
              </a:solidFill>
              <a:latin typeface="Charcoal"/>
              <a:ea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ita L. Archer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cherteach@aol.co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03-295-77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67E-E734-4BAF-B61C-5FA5457BA5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lection of Vocabul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ords for robust, explicit vocabulary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to ten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 story or section in a chapter would be appropri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ef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students the meaning of other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needed for comprehen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468-D0C7-433C-BACF-9DF11B549A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lection of vocabular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words that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words that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assage understa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words that students are likely to encounter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re generally useful.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tahl, 198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3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Tier Two word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eck &amp; McKeown, 2003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749-AA8E-4E22-9884-96C9E370C4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lection of Vocabul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r One - Basic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r, bed, happy, h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r Two - Words in general use, but not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ntrate, absurd, fortunate, observation, accountant, dignity, conveni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r Three - Rare words limited to a specific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ndra, igneous rocks, weath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166-54A4-4DC8-B95C-F43D1A8C59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plicit Instruction of Words-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lection of Vocabul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ilocks Wor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oo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oo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tahl &amp; Stahl,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8B7-C077-46A4-BD39-59538FD06D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Select words for robust, explicit instruction.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2162160"/>
          <a:ext cx="8001000" cy="469584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Grad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fth Grad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my Pie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y Derek Muns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amily Under the Bridge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Natalie Savage Carlson (for Chapter 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ieu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mpoli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hedr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m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w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ey-ho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gus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acinth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wo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i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d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eand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ri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titu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idiou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it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iter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ev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guis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mera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nt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BBE-C571-49F9-944D-FF2D4842CC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licit Instruction of Words- Practice Activity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lect 5 words for robust explicit instructio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14400" y="1828800"/>
          <a:ext cx="5791320" cy="4245120"/>
        </p:xfrm>
        <a:graphic>
          <a:graphicData uri="http://schemas.openxmlformats.org/drawingml/2006/table">
            <a:tbl>
              <a:tblPr/>
              <a:tblGrid>
                <a:gridCol w="1676520"/>
                <a:gridCol w="1981080"/>
                <a:gridCol w="2133720"/>
              </a:tblGrid>
              <a:tr h="606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ading Level: Eighth Grad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ssage:  Breaker’s Brid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eries:  Prentice Hal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ds: *Selected for instruction in manual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bstacle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mplif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rithing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o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mp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ier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ini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mer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xecutioner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f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mmortal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s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posi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mpe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uperv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ad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AD6-5A4C-47FD-918E-D0E672D6D3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eparation - Selection of words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, teach idioms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A phrase or expression in which the entire meaning is different from the usual meaning of the  individual words.)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 rolling down the h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ught my ey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on we we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stitch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int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 me an arm and a le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cher w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der the weathe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59D-0AF4-4C30-A66F-C1A0450B21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eparation - Student-friendly explanations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ctionary Defin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e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(1) To free wholly or partly from pain, stress, pressure. (2) To lessen or alleviate, as pain or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udent-Friendly Explanation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eck, McKeown, &amp; Kucan, 2003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known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easy to under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omething that was difficult is over or never happened at all, you fe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e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4767-68AA-463C-8F05-47B0491B87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eparation - Student-friendly explanat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ctionary Defin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ntio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the act or state of attending through applying the mind to an object of sense or thou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a condition of readiness for such attention involving a selective narrowing of consciousness and recep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planation from Dictionary for English Language Lear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lementary Learner’s Dictionar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shed by Oxf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n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oking or listening carefully and with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92F-99CC-4B09-AA64-E498FD1885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Preparation - Selection of Vocabulary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82600" y="2017800"/>
          <a:ext cx="7772400" cy="3429000"/>
        </p:xfrm>
        <a:graphic>
          <a:graphicData uri="http://schemas.openxmlformats.org/drawingml/2006/table">
            <a:tbl>
              <a:tblPr/>
              <a:tblGrid>
                <a:gridCol w="3668760"/>
                <a:gridCol w="41036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tionary Defini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-Friendly Explan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gusting - to cause to feel disgust; be sickening, repulsive, or very distasteful 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gile - easily broken, damaged, or destroy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titude - a feeling of thankful appreciation for favors or benefits receiv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itering  - to linger in an aimless way; spend time id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C308-0400-4D3B-9853-60CE66171B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Times New Roman"/>
              </a:rPr>
              <a:t>EFFECTIVE  INSTRUCTIO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itical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of Instr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ivery of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dependent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801-7872-4F3E-BAAA-9A7A6F8244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0F9E-86B4-41A6-BAEB-EE811F4420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Video Example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structional steps were used to introduce each of the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ED94-632E-41ED-A63E-CE7D48D3AC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Video Exampl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good practices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5D2-367C-47FA-AA56-E6E0EFC31E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structional Routin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(Note:  Teach words AFTER you have read a story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your students and BEFORE students read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selectio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Step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Introduce the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6602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the word on the board or overhe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6602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the word and have the students repeat the wor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word is difficult to pronounce or unfamiliar have the students repeat the word a number of times.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Introduce the word with 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is word is relieved.   What wor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8DD-5D7F-408E-89DB-6FC1D4D4DE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structional Routine (continued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Step 2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a student-friendl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pla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499"/>
              </a:spcBef>
              <a:buClr>
                <a:srgbClr val="ff0000"/>
              </a:buClr>
              <a:buSzPct val="5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students the explanation. 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spcBef>
                <a:spcPts val="499"/>
              </a:spcBef>
              <a:buClr>
                <a:srgbClr val="ff0000"/>
              </a:buClr>
              <a:buSzPct val="5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hem read the explanation with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resent the definition with 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hen something that is difficult is o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r never happened at all, you feel reliev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o if something that is difficult is ove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you would feel  _______________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9B6-AECA-4B7D-9735-1C3B6FA1C6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structional Routine (continued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Step 3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e the word with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re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exampl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Present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the examples with m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n the spelling test is over, you 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lieved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n you have finished giving the spee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ou dreaded, you fee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lieved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C05-DACD-4BB3-AB1E-2ED1EEB48D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structional Routine (continued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Step 4.  </a:t>
            </a: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students’ understand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Option #1.  </a:t>
            </a: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k deep processing question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heck students’ understanding with 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hen the students lined up for morning reces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Jason said, “I am so relieved that this morning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ver.” Why might Jason be relieved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hen Maria was told that the soccer game h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en cancelled, she said, “I am relieved.”  W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ight Maria be reliev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21A-D1C6-482B-8840-4F91C4AE58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structional Routine (continued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f01"/>
                </a:solidFill>
                <a:latin typeface="Arial"/>
              </a:rPr>
              <a:t>Step 4.  </a:t>
            </a:r>
            <a:r>
              <a:rPr b="0" lang="en-US" sz="20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students’ under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f01"/>
                </a:solidFill>
                <a:latin typeface="Arial"/>
              </a:rPr>
              <a:t>Option #2.  </a:t>
            </a:r>
            <a:r>
              <a:rPr b="0" lang="en-US" sz="20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students discern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and non-examp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heck students’ understanding with 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 you were nervous singing in front of oth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ould you feel relieved when the concert was over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es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hy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 you loved singing to audiences, would you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ieved when the concert was over?”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No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hy not?”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as not difficult for yo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EDA-0C75-4A05-9665-58CEC15911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structional Routine (continued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Step 4.  </a:t>
            </a: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students’ underst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Option #3.  </a:t>
            </a: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students generate their ow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heck students’ understanding with me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ell your partner a time when you w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elieved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B56-CE40-401B-93C5-63ABBC43C5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structional Routine (continued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Step 4.  </a:t>
            </a: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students’ underst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Option #4.  </a:t>
            </a:r>
            <a:r>
              <a:rPr b="0" lang="en-US" sz="2400" spc="-1" strike="noStrike">
                <a:solidFill>
                  <a:srgbClr val="ffc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students with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tence starter”.  Have them say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heck students’ understanding with me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ometimes your mother is relieved.  Tell your partn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hen your mother is relieved.  Start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entence by saying, “My mother is rel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hen________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D63-D74B-4C10-80BD-8287E10D1BD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Arial"/>
              </a:rPr>
              <a:t>Critical Content</a:t>
            </a:r>
            <a:r>
              <a:rPr b="0" lang="en-US" sz="37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8994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USEFUL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t EMPOWER studen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t GENERAL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es -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s (Vocabulary) - 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C1D-97AD-4C96-BD98-72DF3400B6C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Video Exampl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good practices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926-68F3-49A7-859D-4A4E2E9399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  <a:ea typeface="Times New Roman"/>
              </a:rPr>
              <a:t>Teach the meaning of critical, unknown vocabulary words.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e teac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the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a student-friendly explan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the word with 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students’ understan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70E-4558-4C1B-9112-94A33130F01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ocabulary Lo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ve students maintain a vocabulary lo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og can be used fo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duled vocabulary reviews with the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 with a partner or a te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study of vocabul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177-1EC7-4B31-BA52-6585402CF3B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ocabulary Log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can be recorded on a vocabulary lo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-friendly expla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of thes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tence to illustrate the word’s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and non-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019-2627-42C3-A7E8-6D2244AC667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d W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word wall in your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a reminder of the con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of the cover of the read-aloud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of the first page in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tle of the story or ch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pic in science or soci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the vocabulary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the words into your classroom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students to us the words when speaking and wr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855-DDB5-4634-B9B4-FB2D493EC1F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d W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word wall in your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a reminder of the 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y of the cover of the read-aloud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y of the first page in the 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opic in science or social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the vocabulary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 the words into your classroom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students to us the words when speaking and wr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FB7-04DA-4820-B0B0-11E3C0EEF35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Arial"/>
                <a:ea typeface="Times New Roman"/>
              </a:rPr>
              <a:t>Design of Lesson -  </a:t>
            </a:r>
            <a:r>
              <a:rPr b="1" i="1" lang="en-US" sz="3700" spc="-1" strike="noStrike">
                <a:solidFill>
                  <a:srgbClr val="333399"/>
                </a:solidFill>
                <a:latin typeface="Arial"/>
                <a:ea typeface="Times New Roman"/>
              </a:rPr>
              <a:t>Overview</a:t>
            </a:r>
            <a:endParaRPr b="0" lang="en-US" sz="3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tentio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view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d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o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view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CD6-6D23-47B8-B55B-268C1B77F9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sign of Lesson -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Opening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verbal cue such as “Listen” or  “We are going to begi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verbal cue with silenc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the content of the previous les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necessary preskills for today’s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background knowledge needed for today’s lesso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he goal of the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ew the activities for the peri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D06-7F4A-4F90-8408-25D497CF17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sign of Lesson -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Closing 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skills/strategies/concepts/information tau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ew the content that will be taught in the next less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assignments/quizzes/projects/performances due in the fu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students record all assig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74F-BC07-49A3-A204-BD016734CD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0304-C391-475D-B9B4-D10AD59A1B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rategy and Skil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464-A63A-4F64-8802-E3038D3D37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9T23:22:08Z</dcterms:created>
  <dc:creator>Mary Gleason</dc:creator>
  <dc:description/>
  <cp:keywords/>
  <dc:language>en-US</dc:language>
  <cp:lastModifiedBy>Archer Anita</cp:lastModifiedBy>
  <cp:lastPrinted>2011-05-29T20:15:21Z</cp:lastPrinted>
  <dcterms:modified xsi:type="dcterms:W3CDTF">2011-07-19T04:43:28Z</dcterms:modified>
  <cp:revision>82</cp:revision>
  <dc:subject/>
  <dc:title>              Study Skills:   The Invisible Curriculum  Mary Gleason Associate Professor  College of Education     </dc:title>
</cp:coreProperties>
</file>